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D6A0-98F3-424A-BC1B-DE5D9F5FDD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296E-BA09-4382-A3F6-FFC41FD840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C4D5-60B6-44C8-8092-13147F943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149F-B8FE-4246-B9FD-FD958BDBCA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23FB-A03A-4D2F-9796-D0F176DC12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C144-A764-4619-A64B-CB6DC733B9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3114-DCB1-4487-9A13-D294C2AC80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624D-4778-426F-BB70-8892C693E2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B0A8-A391-450A-8DCA-FF3D267DC5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16B3-E701-43B3-B0F3-CE7B24BC2F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8CA2-A611-4FBC-A8F1-712828378D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FE70-FBAA-4349-A8CA-F35FF1807C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799C-F2FC-45FB-8F7C-F234556CB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4569-0565-466A-BC2F-CB69078B568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043A-C383-449F-8436-5C9BB349A34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D20F-2166-4FF9-88BF-91B751DA7E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7292-4CC9-4B83-82D6-D0A7754AC24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2F55-975B-42C4-A3F7-348E9C66D9C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4E977-CBAB-4482-BD3B-2EED0C9CB0C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3E1CE-C045-450E-991D-23F30B07088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E90E-894E-4E25-972D-064D82BD69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40FA-DE73-49D1-A57C-937169833E7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880F-C87C-4668-9CBC-999F03443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91A3-47F8-492C-AEC5-FA54804C88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882-424C-4A05-88CB-14B809CC7CE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FDD-C21A-4B4E-8B71-755491A858F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CAA-C5ED-43BC-A97E-79B8933E20D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C4B-AEFA-4153-8872-89DFB25D0A5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6D1-0A9B-4632-BE23-8A1C741281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5D0-31F3-4C29-8D7E-DD91965728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D8C-CD80-470C-8914-B44ABD7DF5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02A-B055-4C32-B764-160C41BD4C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657-E9C4-4F17-9A10-A69324B1B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EA2-7930-41AD-8C5E-B3A746E32CF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479-E7C0-4CCF-9B9A-59FC8B3E4CF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BF4-226A-4992-A2D2-BA6B975D8F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1BDE2-4529-4B3D-A794-1A6B1EE599C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F802C-2FBB-4A94-A098-A07ED56373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E34C1-2B7B-4D14-BBAD-DA1BD1F0881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FA9EC-C797-42AD-9233-06BEBEBB70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33487-6DFC-4A32-963E-AEDF1522D60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CDFC0-1F5F-4F20-B611-614451B9E6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5877A-2A4E-4B4F-BDEC-68473D2AC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CFD56-BD17-4B53-867A-9D1136A4758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3E116-6F69-46D9-98F3-D34AF6C2C29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1EA36-579F-4F8B-A2C8-DC04001741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BDF58-B98D-4EE0-8897-80B03287A8D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3C283-2C60-4837-B715-145E10AE9A6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2 - Εικόνα" descr="PEAP_presentation_en_pag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9 - Εικόνα" descr="PEAP_presentation_en_pag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Text Placeholder 8"/>
          <p:cNvSpPr/>
          <p:nvPr/>
        </p:nvSpPr>
        <p:spPr>
          <a:xfrm>
            <a:off x="444600" y="5030640"/>
            <a:ext cx="8254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700" spc="-1" strike="noStrike">
                <a:solidFill>
                  <a:srgbClr val="0a4187"/>
                </a:solidFill>
                <a:latin typeface="Calibri"/>
              </a:rPr>
              <a:t>http://rcel.enl.uoa.gr                       rcel@enl.uoa.gr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" name="8 - Ομάδα"/>
          <p:cNvGrpSpPr/>
          <p:nvPr/>
        </p:nvGrpSpPr>
        <p:grpSpPr>
          <a:xfrm>
            <a:off x="2357280" y="3929040"/>
            <a:ext cx="4429440" cy="1000080"/>
            <a:chOff x="2357280" y="3929040"/>
            <a:chExt cx="4429440" cy="1000080"/>
          </a:xfrm>
        </p:grpSpPr>
        <p:sp>
          <p:nvSpPr>
            <p:cNvPr id="40" name="7 - Ορθογώνιο"/>
            <p:cNvSpPr/>
            <p:nvPr/>
          </p:nvSpPr>
          <p:spPr>
            <a:xfrm>
              <a:off x="2357280" y="3929040"/>
              <a:ext cx="442944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a41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41" name="6 - Εικόνα" descr="RCEL_18_01_12_2.jpg"/>
            <p:cNvPicPr/>
            <p:nvPr/>
          </p:nvPicPr>
          <p:blipFill>
            <a:blip r:embed="rId3"/>
            <a:stretch/>
          </p:blipFill>
          <p:spPr>
            <a:xfrm>
              <a:off x="2435400" y="4080240"/>
              <a:ext cx="4246560" cy="74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 - Εικόνα" descr="PEAP_presentation_en_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2 - Εικόνα" descr="PEAP_presentation_en_pag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ldNum" idx="1"/>
          </p:nvPr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600" spc="-1" strike="noStrike">
                <a:solidFill>
                  <a:srgbClr val="0a4187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D1FE-5D34-4869-9F8A-77D9CC7DE366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2 - Εικόνα" descr="PEAP_presentation_en_pag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2"/>
          </p:nvPr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600" spc="-1" strike="noStrike">
                <a:solidFill>
                  <a:srgbClr val="0a4187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AD7F-7B95-4CCC-94AD-85E0A24A7CF5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2 - Εικόνα" descr="PEAP_presentation_en_pag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3"/>
          </p:nvPr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600" spc="-1" strike="noStrike">
                <a:solidFill>
                  <a:srgbClr val="0a4187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FBB1-6748-44AC-8491-9F61918D213D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2 - Εικόνα" descr="PEAP_presentation_en_pag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4"/>
          </p:nvPr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600" spc="-1" strike="noStrike">
                <a:solidFill>
                  <a:srgbClr val="0a4187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E9EA-B341-4268-9137-52AA3B6E28FC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2 - Εικόνα" descr="PEAP_presentation_en_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3 - Εικόνα" descr="EPEDBM_GB.jpg"/>
          <p:cNvPicPr/>
          <p:nvPr/>
        </p:nvPicPr>
        <p:blipFill>
          <a:blip r:embed="rId3"/>
          <a:stretch/>
        </p:blipFill>
        <p:spPr>
          <a:xfrm>
            <a:off x="2120760" y="5643720"/>
            <a:ext cx="3597480" cy="857160"/>
          </a:xfrm>
          <a:prstGeom prst="rect">
            <a:avLst/>
          </a:prstGeom>
          <a:ln w="9360">
            <a:solidFill>
              <a:srgbClr val="0a4187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35240" y="1428840"/>
            <a:ext cx="5122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Subproject 03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raining the trainers and teachers to implement the program of learning 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133720" y="2742840"/>
            <a:ext cx="5067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4187"/>
                </a:solidFill>
                <a:latin typeface="Calibri"/>
                <a:ea typeface="Calibri"/>
              </a:rPr>
              <a:t>Using the “Magic Book”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4187"/>
                </a:solidFill>
                <a:latin typeface="Calibri"/>
                <a:ea typeface="Calibri"/>
              </a:rPr>
              <a:t>3</a:t>
            </a:r>
            <a:r>
              <a:rPr b="1" lang="en-US" sz="2400" spc="-1" strike="noStrike" baseline="30000">
                <a:solidFill>
                  <a:srgbClr val="0a4187"/>
                </a:solidFill>
                <a:latin typeface="Calibri"/>
                <a:ea typeface="Calibri"/>
              </a:rPr>
              <a:t>rd</a:t>
            </a:r>
            <a:r>
              <a:rPr b="1" lang="en-US" sz="2400" spc="-1" strike="noStrike">
                <a:solidFill>
                  <a:srgbClr val="0a4187"/>
                </a:solidFill>
                <a:latin typeface="Calibri"/>
                <a:ea typeface="Calibri"/>
              </a:rPr>
              <a:t> year primary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980720" y="3962160"/>
            <a:ext cx="4496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4187"/>
                </a:solidFill>
                <a:latin typeface="Calibri"/>
                <a:ea typeface="Calibri"/>
              </a:rPr>
              <a:t>Marina Mattheoudaki</a:t>
            </a:r>
            <a:r>
              <a:rPr b="1" lang="el-GR" sz="1800" spc="-1" strike="noStrike">
                <a:solidFill>
                  <a:srgbClr val="0a4187"/>
                </a:solidFill>
                <a:latin typeface="Calibri"/>
                <a:ea typeface="Calibri"/>
              </a:rPr>
              <a:t> (</a:t>
            </a:r>
            <a:r>
              <a:rPr b="1" lang="en-US" sz="1800" spc="-1" strike="noStrike">
                <a:solidFill>
                  <a:srgbClr val="0a4187"/>
                </a:solidFill>
                <a:latin typeface="Calibri"/>
                <a:ea typeface="Calibri"/>
              </a:rPr>
              <a:t>Assistant Professor</a:t>
            </a:r>
            <a:r>
              <a:rPr b="1" lang="el-GR" sz="1800" spc="-1" strike="noStrike">
                <a:solidFill>
                  <a:srgbClr val="0a4187"/>
                </a:solidFill>
                <a:latin typeface="Calibri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4187"/>
                </a:solidFill>
                <a:latin typeface="Calibri"/>
                <a:ea typeface="Calibri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4187"/>
                </a:solidFill>
                <a:latin typeface="Calibri"/>
                <a:ea typeface="Calibri"/>
              </a:rPr>
              <a:t>Thomais Alexiou</a:t>
            </a:r>
            <a:r>
              <a:rPr b="1" lang="el-GR" sz="1800" spc="-1" strike="noStrike">
                <a:solidFill>
                  <a:srgbClr val="0a4187"/>
                </a:solidFill>
                <a:latin typeface="Calibri"/>
                <a:ea typeface="Calibri"/>
              </a:rPr>
              <a:t> (</a:t>
            </a:r>
            <a:r>
              <a:rPr b="1" lang="en-US" sz="1800" spc="-1" strike="noStrike">
                <a:solidFill>
                  <a:srgbClr val="0a4187"/>
                </a:solidFill>
                <a:latin typeface="Calibri"/>
                <a:ea typeface="Calibri"/>
              </a:rPr>
              <a:t>Lecturer</a:t>
            </a:r>
            <a:r>
              <a:rPr b="1" lang="el-GR" sz="1800" spc="-1" strike="noStrike">
                <a:solidFill>
                  <a:srgbClr val="0a4187"/>
                </a:solidFill>
                <a:latin typeface="Calibri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Practising the languag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6200" y="2285640"/>
            <a:ext cx="8248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f the teacher wishes to, s/he may involve all learners in reading aloud the text but by giving them a purpose, e.g., asking them to play a role, or organising a chorus reading once loud, once in a low voice, only boys, only girls, rap style, hip hop style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Learners start acting out the dialogue in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BF20-2A5A-435D-8415-227497DB5E5E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Tips and suggestions:</a:t>
            </a:r>
            <a:r>
              <a:rPr b="1" lang="en-US" sz="2800" spc="-1" strike="noStrike">
                <a:solidFill>
                  <a:srgbClr val="0a4187"/>
                </a:solidFill>
                <a:latin typeface="Calibri"/>
                <a:ea typeface="Calibri"/>
              </a:rPr>
              <a:t> </a:t>
            </a:r>
            <a:r>
              <a:rPr b="1" lang="en-GB" sz="2800" spc="-1" strike="noStrike">
                <a:solidFill>
                  <a:srgbClr val="0a4187"/>
                </a:solidFill>
                <a:latin typeface="Calibri"/>
                <a:ea typeface="Calibri"/>
              </a:rPr>
              <a:t>Teaching the skill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6200" y="2209320"/>
            <a:ext cx="824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kills at this age are presented/practised in the following order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stening/reading/speaking/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wr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Listening is prior to reading or speaking; Children should listen to the text as many times as they think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necessar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(2, 3, 4 times) before they start producing (either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writ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or speaking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3D1A-70CA-421E-BB0B-7018FBBC2914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Tips and suggestions:</a:t>
            </a:r>
            <a:r>
              <a:rPr b="1" lang="en-US" sz="2800" spc="-1" strike="noStrike">
                <a:solidFill>
                  <a:srgbClr val="0a4187"/>
                </a:solidFill>
                <a:latin typeface="Calibri"/>
                <a:ea typeface="Calibri"/>
              </a:rPr>
              <a:t> </a:t>
            </a: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How to do the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6200" y="1928520"/>
            <a:ext cx="82486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ctivit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i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on lexical chunks: we don’t translate the chunks but we make sure that adequate practice has been provided before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in order fo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children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t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cquire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th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ost of the activities can be done in pairs; Few can also be done in groups.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Encourage pair-working instead of individu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We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NEV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translate the songs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and we don’t explain them; we act them ou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D639-92B9-492B-A4C8-29948E0F1F9B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child art"/>
          <p:cNvPicPr/>
          <p:nvPr/>
        </p:nvPicPr>
        <p:blipFill>
          <a:blip r:embed="rId1"/>
          <a:stretch/>
        </p:blipFill>
        <p:spPr>
          <a:xfrm>
            <a:off x="1447920" y="914400"/>
            <a:ext cx="6476760" cy="5181480"/>
          </a:xfrm>
          <a:prstGeom prst="rect">
            <a:avLst/>
          </a:prstGeom>
          <a:ln w="0">
            <a:noFill/>
          </a:ln>
        </p:spPr>
      </p:pic>
      <p:sp>
        <p:nvSpPr>
          <p:cNvPr id="343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F6AB-54EA-4929-8BD4-E540D48B66F8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child art 2"/>
          <p:cNvPicPr/>
          <p:nvPr/>
        </p:nvPicPr>
        <p:blipFill>
          <a:blip r:embed="rId1"/>
          <a:stretch/>
        </p:blipFill>
        <p:spPr>
          <a:xfrm>
            <a:off x="1143000" y="914400"/>
            <a:ext cx="6629400" cy="5181480"/>
          </a:xfrm>
          <a:prstGeom prst="rect">
            <a:avLst/>
          </a:prstGeom>
          <a:ln w="0">
            <a:noFill/>
          </a:ln>
        </p:spPr>
      </p:pic>
      <p:sp>
        <p:nvSpPr>
          <p:cNvPr id="345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4EDE-3055-4282-8702-4C5524555A58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Tips and suggestions:Tasks and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6200" y="1928520"/>
            <a:ext cx="82486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Activity 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’s a task and not a language activity. The end result of the task will actually indicate the successful comprehen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Activity 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: This is a task as well. This task might be carried out by using extra material and by making it more interactive and interesting for learn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86A1-628D-472F-A98E-97BBFC1506C3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Task p"/>
          <p:cNvPicPr/>
          <p:nvPr/>
        </p:nvPicPr>
        <p:blipFill>
          <a:blip r:embed="rId1"/>
          <a:stretch/>
        </p:blipFill>
        <p:spPr>
          <a:xfrm>
            <a:off x="2133720" y="914400"/>
            <a:ext cx="4876560" cy="5029200"/>
          </a:xfrm>
          <a:prstGeom prst="rect">
            <a:avLst/>
          </a:prstGeom>
          <a:ln w="0">
            <a:noFill/>
          </a:ln>
        </p:spPr>
      </p:pic>
      <p:sp>
        <p:nvSpPr>
          <p:cNvPr id="350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12C3-D8FC-4ADC-A422-8A1FC4A6A48A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5336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Watch an example which elaborates on the particular tas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(Video #4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D114-5A29-41CC-A614-F994EF37BABF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258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4187"/>
                </a:solidFill>
                <a:latin typeface="Calibri"/>
                <a:ea typeface="Calibri"/>
              </a:rPr>
              <a:t>Unit 7: Lesson 2 </a:t>
            </a:r>
            <a:br>
              <a:rPr sz="2400"/>
            </a:br>
            <a:r>
              <a:rPr b="1" lang="en-GB" sz="2400" spc="-1" strike="noStrike">
                <a:solidFill>
                  <a:srgbClr val="0a4187"/>
                </a:solidFill>
                <a:latin typeface="Calibri"/>
                <a:ea typeface="Calibri"/>
              </a:rPr>
              <a:t>The </a:t>
            </a:r>
            <a:r>
              <a:rPr b="1" lang="el-GR" sz="2400" spc="-1" strike="noStrike">
                <a:solidFill>
                  <a:srgbClr val="0a4187"/>
                </a:solidFill>
                <a:latin typeface="Calibri"/>
                <a:ea typeface="Calibri"/>
              </a:rPr>
              <a:t>lesson</a:t>
            </a:r>
            <a:r>
              <a:rPr b="1" lang="en-GB" sz="2400" spc="-1" strike="noStrike">
                <a:solidFill>
                  <a:srgbClr val="0a4187"/>
                </a:solidFill>
                <a:latin typeface="Calibri"/>
                <a:ea typeface="Calibri"/>
              </a:rPr>
              <a:t> starts with a so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a4187"/>
                </a:solidFill>
                <a:latin typeface="Calibri"/>
                <a:ea typeface="Calibri"/>
              </a:rPr>
              <a:t>Step 1</a:t>
            </a:r>
            <a:r>
              <a:rPr b="1" lang="en-US" sz="1800" spc="-1" strike="noStrike">
                <a:solidFill>
                  <a:srgbClr val="0a4187"/>
                </a:solidFill>
                <a:latin typeface="Calibri"/>
                <a:ea typeface="Calibri"/>
              </a:rPr>
              <a:t>:</a:t>
            </a:r>
            <a:r>
              <a:rPr b="1" lang="el-GR" sz="1800" spc="-1" strike="noStrike">
                <a:solidFill>
                  <a:srgbClr val="0a4187"/>
                </a:solidFill>
                <a:latin typeface="Calibri"/>
                <a:ea typeface="Calibri"/>
              </a:rPr>
              <a:t> Int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Teacher starts by eliciting learners’ opinions about the pictures – most of the vocabulary items are already known (recycling of previous knowledg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a4187"/>
                </a:solidFill>
                <a:latin typeface="Calibri"/>
                <a:ea typeface="Calibri"/>
              </a:rPr>
              <a:t>Step 2: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Learners listen to the song – this can be acted out  and dramatized by the teacher to help understan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l-GR" sz="1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el-GR" sz="1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time learners can copy the teach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e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and start miming the ac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a4187"/>
                </a:solidFill>
                <a:latin typeface="Calibri"/>
                <a:ea typeface="Calibri"/>
              </a:rPr>
              <a:t>Step 3: Practi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Further listening and singing by taking roles and singing the corre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ponding lines; Afterwards, they may reverse ro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Then, learners are ready to do the matching or pointing to corresponding pi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Elaboration of vocabulary for further practice: Take out the vocabulary items and ask them to put them in the correct space in the so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5800" indent="-595800"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Mix the verses / sentences and ask them to put them in the correct order as they listen to the C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58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B6C2-D97E-4F3E-ACCC-15A556C81DBB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Dict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6200" y="2285640"/>
            <a:ext cx="8248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We don’t encourage dictation in the traditional 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If teachers insist on assigning such activities; 4-6 words or 2-3 lexical chu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Graded dictation and peer cor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E322-9D15-4CD1-A1D0-0FD712E980FF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33160" y="1699920"/>
            <a:ext cx="82486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Video watching of introduction techniques; Ref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Video watching of presentation techniques; Ref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Video watching of practice techniques; Ref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odels of teaching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ips and sugg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08A4-3C08-4E68-ADA0-9F74D07E80EB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2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We don’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6200" y="1928520"/>
            <a:ext cx="82486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-teach vocabulary items out of con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Dril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without a purpo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anslat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every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Teach grammar explicitly  (e.g. Simple Present for Unit 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Ask learners to read before th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actice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4E94-3F31-42AB-8730-47D25DB1CAC9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We d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6200" y="1928520"/>
            <a:ext cx="82486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Encourage teachers to create supplementary mate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Advise teachers to consult the teacher’s notes on PEAP s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Recommend multisensory and imaginative activ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Suggest regular recycling of lexical chu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CB3B-B278-46D8-8B23-3547DDAAE7E4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66200" y="2309400"/>
            <a:ext cx="82486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a4187"/>
                </a:solidFill>
                <a:latin typeface="Calibri"/>
                <a:ea typeface="Calibri"/>
              </a:rPr>
              <a:t>	</a:t>
            </a:r>
            <a:r>
              <a:rPr b="1" lang="el-GR" sz="2000" spc="-1" strike="noStrike">
                <a:solidFill>
                  <a:srgbClr val="0a4187"/>
                </a:solidFill>
                <a:latin typeface="Calibri"/>
                <a:ea typeface="Calibri"/>
              </a:rPr>
              <a:t>Children learn by head, hand and he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a4187"/>
                </a:solidFill>
                <a:latin typeface="Calibri"/>
                <a:ea typeface="Calibri"/>
              </a:rPr>
              <a:t>	</a:t>
            </a:r>
            <a:r>
              <a:rPr b="1" lang="el-GR" sz="2000" spc="-1" strike="noStrike">
                <a:solidFill>
                  <a:srgbClr val="0a4187"/>
                </a:solidFill>
                <a:latin typeface="Calibri"/>
                <a:ea typeface="Calibri"/>
              </a:rPr>
              <a:t>	</a:t>
            </a:r>
            <a:r>
              <a:rPr b="1" lang="el-GR" sz="2000" spc="-1" strike="noStrike">
                <a:solidFill>
                  <a:srgbClr val="0a4187"/>
                </a:solidFill>
                <a:latin typeface="Calibri"/>
                <a:ea typeface="Calibri"/>
              </a:rPr>
              <a:t>	</a:t>
            </a:r>
            <a:r>
              <a:rPr b="1" lang="el-GR" sz="2000" spc="-1" strike="noStrike">
                <a:solidFill>
                  <a:srgbClr val="0a4187"/>
                </a:solidFill>
                <a:latin typeface="Calibri"/>
                <a:ea typeface="Calibri"/>
              </a:rPr>
              <a:t>	</a:t>
            </a:r>
            <a:r>
              <a:rPr b="1" lang="el-GR" sz="2000" spc="-1" strike="noStrike">
                <a:solidFill>
                  <a:srgbClr val="0a4187"/>
                </a:solidFill>
                <a:latin typeface="Calibri"/>
                <a:ea typeface="Calibri"/>
              </a:rPr>
              <a:t>	</a:t>
            </a:r>
            <a:r>
              <a:rPr b="1" lang="el-GR" sz="2000" spc="-1" strike="noStrike">
                <a:solidFill>
                  <a:srgbClr val="0a4187"/>
                </a:solidFill>
                <a:latin typeface="Calibri"/>
                <a:ea typeface="Calibri"/>
              </a:rPr>
              <a:t>J. Pestalozz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5BDE-655E-43D1-8502-AF6732F044BD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26520" y="1785960"/>
            <a:ext cx="8512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a4187"/>
                </a:solidFill>
                <a:latin typeface="Calibri"/>
                <a:ea typeface="Calibri"/>
              </a:rPr>
              <a:t>Το έργο υλοποιείται από το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ΚΕΝΤΡΟ ΕΡΕΥΝΑΣ ΓΙΑ ΤΗ ΔΙΔΑΣΚΑΛΙΑ ΚΑ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ΤΗΝ ΑΞΙΟΛΟΓΗΣΗ ΤΗΣ ΓΝΩΣΗΣ ΤΗΣ ΑΓΓΛΙΚΗ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Organisation of the le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6200" y="2209320"/>
            <a:ext cx="824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Each unit includes 3 les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All lessons have the sam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Each lesson is story-b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Each story is followed by a number o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There is no pre-teaching of vocabul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4500-2BCC-46DA-843A-6857E4A7A78A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85920"/>
            <a:ext cx="825804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Workshop</a:t>
            </a:r>
            <a:r>
              <a:rPr b="1" lang="en-US" sz="2800" spc="-1" strike="noStrike">
                <a:solidFill>
                  <a:srgbClr val="0a4187"/>
                </a:solidFill>
                <a:latin typeface="Calibri"/>
                <a:ea typeface="Calibri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a4187"/>
                </a:solidFill>
                <a:latin typeface="Calibri"/>
                <a:ea typeface="Calibri"/>
              </a:rPr>
              <a:t>Activity 1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6200" y="2590560"/>
            <a:ext cx="82486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tch the video techniques on Video #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4BDE-2F15-42DD-AE50-02051B058F64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Introduction techniqu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6200" y="2133720"/>
            <a:ext cx="8248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rainstorming to elicit and expand children’s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schematic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knowledge about the topic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/concep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(fruit, vegetables – whatever they know related to this topic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) with th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e of realia, flashcards, objec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esentation of the topic: what do you have for breakfa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stablish cross-curricular links (e.g. with Triviza’s story – food and hygiene – heroes like Pinocchio, the Beauty and the Beast, Aesop’s fables, fairytale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DE63-57EA-44C7-903D-FD5CF69CFA0E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a4187"/>
                </a:solidFill>
                <a:latin typeface="Calibri"/>
                <a:ea typeface="Calibri"/>
              </a:rPr>
              <a:t>Activity 2</a:t>
            </a:r>
            <a:br>
              <a:rPr sz="2800"/>
            </a:b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Presentation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1880" y="2666880"/>
            <a:ext cx="8253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Watc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the Video excerpt (#2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dentif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any of the following presentation techniques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ick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9E89-8303-4F8B-95FB-9545E9573F53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Presentation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6200" y="2133720"/>
            <a:ext cx="8248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Listening to the text with their books closed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(once ot twice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; dramatization on the part of the teacher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e of body language and gesture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Learners listen to the story with books open (2 or 3 times) and follow the story; This facilitates decoding of langua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eacher puts on board flashcards from the text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in a random order;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learners are required to stand up and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put them in order while listening to the tex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61B8-F854-4441-B2E5-CC28BB30E416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85920"/>
            <a:ext cx="825804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a4187"/>
                </a:solidFill>
                <a:latin typeface="Calibri"/>
                <a:ea typeface="Calibri"/>
              </a:rPr>
              <a:t>Activity </a:t>
            </a: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3 </a:t>
            </a:r>
            <a:br>
              <a:rPr sz="2800"/>
            </a:b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Practising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1880" y="2590920"/>
            <a:ext cx="8253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Watc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the video excerpt (Video #3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dentif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any of the following p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ractis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techniques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ic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th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BB75-FACD-48FB-A494-36BB1E2D50E5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85560"/>
            <a:ext cx="8258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a4187"/>
                </a:solidFill>
                <a:latin typeface="Calibri"/>
                <a:ea typeface="Calibri"/>
              </a:rPr>
              <a:t>Practising the languag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6200" y="1928520"/>
            <a:ext cx="82486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eacher acts out the text by using visual aids and body language and pointing to the pictures in the bo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eacher asks learners to identify particular lexical items in the text (e.g. teeth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-1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st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voc exercise can be used her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spcBef>
                <a:spcPts val="601"/>
              </a:spcBef>
              <a:buClr>
                <a:srgbClr val="6478b4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eacher puts the flashcards of the story and provides captions for each picture: learners are given the captions and are required to match them with the pictures on board (without listening to the text and without reading it from the boo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- Θέση αριθμού διαφάνειας"/>
          <p:cNvSpPr/>
          <p:nvPr/>
        </p:nvSpPr>
        <p:spPr>
          <a:xfrm>
            <a:off x="3857760" y="6342120"/>
            <a:ext cx="14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8F37-44B1-4EB2-8A80-170EB42B69F3}" type="slidenum">
              <a:rPr b="0" lang="el-GR" sz="1600" spc="-1" strike="noStrike">
                <a:solidFill>
                  <a:srgbClr val="0a4187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8:10:45Z</dcterms:created>
  <dc:creator>Tammy</dc:creator>
  <dc:description/>
  <dc:language>en-US</dc:language>
  <cp:lastModifiedBy>kpg11</cp:lastModifiedBy>
  <dcterms:modified xsi:type="dcterms:W3CDTF">2012-05-21T13:34:1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